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38C8-8CDC-4063-9AAD-E76A504F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9FB5-688F-4616-8FC9-DE4C8095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B4E-1A03-4FAB-A04F-61490916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6081-E063-4C3F-8AAF-9480299B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EC0-824E-4231-B4A0-0C24F104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EF1-49D9-4EDC-8C53-49EE283F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370-0E46-4591-9D17-4EEC8E48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12F0-76B6-431D-9656-66C12080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89D-695B-49AA-9E04-B0CD13BC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AE4-79D3-44DB-BAA1-FD5B98F4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31AC-3E08-4785-9F29-B0B3BB13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12D-BF80-46B0-9C9F-9B061D4E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26F1-A98F-4CC2-BC4D-E15782466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Community Through Virtual Worlds in K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a Dur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fording Christian Acade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uss your thou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SL chat now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¿Why do digital natives seem to feel that their elders are untrustwort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90600" y="254160"/>
            <a:ext cx="476280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97160" y="1041480"/>
            <a:ext cx="634968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9022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61722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uss your thou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SL chat now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K12 classroo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it virtual learning environmen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acus Capali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iVonne Lust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na Koh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wenette Wr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 Page at http://acsiseminar.wikispaces.com/Bio+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97160" y="131436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w Report found that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5% of teens use em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7% of teens play video g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% of teens play in a virtual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learning in a virtual world different from learning in a traditional classro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learn in a virtual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virtual world do you pref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ould learning in a virtual world be used in one content area classro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ould learning in a virtual world be used in one content area classro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2% of respondents feel learning in a virtual world is easier than learning in a traditional classroom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8% report learning social skills in virtual world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4% focus upon musical / artistic content in virtual world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5% of respondents enjoy sims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4% like Webkin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9% prefer Club Pengu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% enjoy runesca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le 9 wrote in virtual worlds they frequent that I didn't even lis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022400"/>
            <a:ext cx="90964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48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23:53:01Z</dcterms:created>
  <dc:creator>HP Authorized Customer</dc:creator>
  <dc:description/>
  <dc:language>en-US</dc:language>
  <cp:lastModifiedBy>HP Authorized Customer</cp:lastModifiedBy>
  <dcterms:modified xsi:type="dcterms:W3CDTF">2009-03-27T02:54:28Z</dcterms:modified>
  <cp:revision>28</cp:revision>
  <dc:subject/>
  <dc:title>Virtual Worlds Best Practices Conference Building Community Through Virtual Worlds in K12</dc:title>
</cp:coreProperties>
</file>